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0D60-393C-43A8-9706-AD782753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F451-44CE-40E8-A328-83A10E0C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E7B6E4-A416-4F5F-9BD3-A1B50EB6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3A186C-62C9-4165-ADD2-0932B22E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A85D8A-A245-467C-A0EB-564B8266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8806D4-8832-44F6-B9F3-AC2C1E6B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212F8-82CF-4C56-A290-DB550DE2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5494AD-3F89-4655-8FDE-70AE17B1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DE6A5-96F1-4902-A1CD-485E6F06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08848D-DBD2-416F-ADDD-FC33B4C3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A4616C-6E8E-479C-BE29-61F8AEDC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E608B3-FE69-4481-8918-7BD9F656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5BA-7870-4D69-B771-06B123BE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8F8C4-2155-461C-B44C-ABE1DEA1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241760-44F3-4901-8553-070CE4F4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3F1B02-CFC7-4F0A-8A3D-F91ADF2D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121D2C-4A97-4030-9356-AF3F8717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C58D5-3AA6-49BA-AF4F-7EC91639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61160-4BCA-4210-8668-CF6C919A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5C4D3-DA5A-4693-B173-7A218E24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19930B-D0DF-4FC6-828B-6C12C8DD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043BC6-152C-4393-9AD8-B0F48920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B9E53-E4DC-4908-B669-DEDA7A1E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D009-ACE1-41BB-80B1-F78CEF73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A1BD22-F39A-4E17-B2B8-631ACDF6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56284-EEBC-43D1-B0A9-F6690BEB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FF878-4A70-4FA6-B156-7CD9B545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FBEF0-2686-432C-95E7-16D9A44F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42C78-0B85-41B7-90AD-665E1B94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DA193-426D-44BC-B705-7D5C345B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80664-8D04-496B-AFB2-0FC8515E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2D8D3-2567-4A40-B28B-F7D16865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3E1B0-E7C9-49E3-87DD-F26F1674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09F0A-F6B7-49E1-9FB1-2D8277C5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D477-A557-44BE-92DD-B11F7FA1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AA0C5-FEFE-4B3C-AC1D-F1AAF4C6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7C994-C4F2-4572-85A3-8988AA9E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474D2-EEDE-4180-87E9-260CBFB4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16D2C-7DC9-4506-9F78-2E8EFD66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F1DA2B-928C-4A9B-A0EA-00D3C75E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6E8865-1947-4922-AECA-2AF60327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AECDDA-EEBD-4A6D-9FEA-736B900A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B54C75-40F7-43A1-987C-072F0E6C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2650EC-F2C4-4E29-877A-AC05F5D8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59EE71-C665-4376-A1D4-A39684C4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FD87-5663-4E13-8047-5BB4D2BE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3039A-6F6D-40F8-917B-B322881E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6F6BD6-20BC-45A3-8742-1819FAA0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7C6CF-8C63-4A4A-8C0A-97C9FA75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63ABC-C7B8-4EE7-88B8-F5F289A1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1B7321-8899-4968-8797-8943A52C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FB95B-0911-4700-A6A6-CD6D26FD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05D68-4484-4C1C-84E8-B2F6028A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0998B-AA17-49D3-A1B8-5EFE37F6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FB7B2E-07B6-4B14-8458-5F5A7D3A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C3D33-251D-419F-AD42-138DB1E6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2A39-AF03-447D-BB11-F2F2F818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8C5FD-0722-4093-9B58-0E6FE028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145C41-448C-4E60-AAA8-7050803C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EB2B76-4BEF-4BF6-B27B-17AD4F98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F71B5-8212-43E4-9467-A95443CC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8B4EC-D7A5-4BF0-9CC6-419A1375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95843-F637-4702-8BA9-4AA414EF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B80D0-195F-49E3-8051-DBFDF05C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A40B-DD2A-4497-B212-47036096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4306-5A72-42A7-88EB-98219BDA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B1C8-850A-4F0D-B1B3-12E0D2EF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1F4A-1EB9-4E2F-8AE2-3664F6B2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B1A3-34AC-4836-8D4F-FE2EB233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9CAA-1972-412B-96CE-418A4AA9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4A3A-391F-4793-A662-595AFC07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794B-85F9-450B-9B09-F00A095C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7F0C-5819-4F8F-8C0A-0E7702EA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3961-753C-4AA8-9574-6ED1F701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A4511-A25F-4EB0-AAE7-8E3E0A71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0E8C1-7F2E-4643-9380-811BDE5B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065ED-2E69-412B-AB8F-D3BE75AD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1387A-9AC3-4DED-B365-970A8757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DBCC5-7CA4-47A5-B57F-7E696CC3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F61-FBC0-4E84-AC6F-5378B99B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85A6F-D364-4217-A86C-1F219D1A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7B3A1-26CB-479F-9B4A-91635256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94BA1-6005-4BC2-8C62-286E6FDE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0EAE8-AC6F-4BCA-AC93-AF76BC32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2C38F-B5F5-43A1-92D5-62E2B9E3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E2CE1-CCB1-4F62-B2AF-091CC8FA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95C68-897E-4E12-9E22-E03674E0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62D00-2844-4BE2-B6FA-5F4B493A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D2D2B-2AB1-46FC-A8DF-B50574A7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292B2-01CE-4E67-AB99-BEB284B7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617E-1D51-48B7-8228-EC36CEA9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05707-474A-43A5-8E3D-8FD7CD7A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24A2B-7893-4608-85C4-AC649FD0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0381E-7392-42AC-8816-B451222F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F86AC-9638-49E2-9CB0-538382A4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B3865-90FE-43E3-800F-BA605CD4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60316-FEC2-4619-9633-BF77227A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8419F-4CEB-4B14-8206-A66BAB4B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927C8-B98E-4120-9ADA-E63C9E1E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BF67E-7B53-4EFD-92D2-5B8A7B30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1CFC2-7FFF-4E43-A93C-F03FFAAC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529-A370-4645-91EF-F917EFBE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8EEAA-EA72-49E4-9286-FC7F2BB2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3A302-F632-4F4F-B7C8-FBFF14FB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FF844-7F49-4C05-BA24-1359BC81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E2D8C-407F-4071-AF0D-3A83201F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A1BC9-DD7B-40A2-99AF-169D4527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E44BF-36F7-49A0-B31D-A4431230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04ADC-48C7-40FC-9552-129D12FD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7F41E-7301-4192-B65D-4DCADCAC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01D3E-F4E4-41D4-BA3D-598C45E4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CD5EF-6AE0-4084-A641-6E242395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934-B357-45C6-A88E-F7AE0454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98532-FD54-400E-A3C7-7351FC09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8B92D-47AC-4F17-BA5E-A71CA16D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E954C-002F-4174-9E9D-2D7B5E20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7C498-89FE-4A9C-A891-DF1FDD63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8EBED-7E68-44C8-9930-3B90146D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3A637-4271-411E-8072-A457B196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E2FC0-B16A-4E4B-9060-B814E126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4042A-98C9-479B-B6CF-B60034E8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28DC6-8CBD-4D6E-9C42-7CE2B86D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7FB8B-1CF1-47C3-94A9-B8E0823B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8CA-F1FB-4ADB-A243-7CA95EEC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FA1E4-B2B7-44EB-88CE-359F534F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32A32-6CF3-4649-BFD6-09437CF7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C2B1A-FC78-4C9F-86A4-F62EF764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89133-5044-4824-BD65-AA1D7DD5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3908E-2023-44E0-8ED8-963D8166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04322-CBAD-4B95-BE0E-F9FB9873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1F452-A75D-4977-98B8-F6367DC9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3AA1B-D841-4EC0-B771-A7BA3C68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4A6D9-C4CF-4D07-8D72-8DC29124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33BEF-77AC-458C-8A01-86D07123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CE7-0896-4797-BBDD-793E62B7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02099-DA8B-431A-8608-737B9A08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D0094-2785-4119-8C9C-FC27DE78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83BA5-0CAB-47A3-86A3-4209BBFC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DFD84-68F2-41D3-A80B-02AB72E6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7D61A-4C3C-4EB7-8B71-7A0D4C29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BF72B-00EE-4515-83D2-988856DA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332CA-A027-4B83-A45F-309CE35B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C5226-844A-452B-AE40-E3E3701A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EF171-9ACD-49A5-B4CE-8B358750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61851-BAC5-44E0-9C41-7F33899D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B2C4-0BEA-4D72-B3B4-3394EE93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696F7-3423-453E-B3E8-5AEC909E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D15F7-DB89-4985-85A3-73F48CBA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4B5C7-0895-485E-879B-93661AE2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9910A-02CD-4FE3-81E2-13FD982B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238C0-56A0-43C6-BEF8-0361939B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511F8-09D1-42E7-9A1D-81540C52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53CDE-8921-4B8B-A619-C3A7432F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341620-3D5F-4611-B4F1-E3F85DBF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CFAFD-870B-4DC7-9929-3E107C69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3F89A-23C3-4A0B-B686-682EE53A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29CB-6E03-4D74-A81F-5B78ADBF24F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3BBF-E888-4391-8C73-34F64A52DAF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71BF-0477-4ED3-93EE-F2175FF35F0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3412-ACA8-46E5-85DC-83C6C2EA256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D292-7CE6-4C17-84E1-BF559D0B229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19CB-D705-40A9-A442-8E98BC84746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8A05-1F2F-4D24-B58F-EE8DBCB3554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21B3-DEEC-40BB-9E16-A466A78AC31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3C11-B920-49B5-8919-5276E89B566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1820-5B43-4D1B-B447-D88F0610C51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F8E7-F690-4A70-AB78-2BF239D4225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06BF-6506-454A-BD78-DF15469F1F0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CB20-B16C-433C-9B19-D5C547FC8B5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744840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БОУ ГИМНАЗИЯ №91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ЖЕЛЕЗНОГОРСК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46b86"/>
                </a:solidFill>
                <a:latin typeface="Georgia"/>
              </a:rPr>
              <a:t>ХАРЧЕВА А.Ю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46b86"/>
                </a:solidFill>
                <a:latin typeface="Georgia"/>
              </a:rPr>
              <a:t>ФЕДОТОВА Г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16349"/>
                </a:solidFill>
                <a:latin typeface="Georgia"/>
              </a:rPr>
              <a:t>Использование возможностей учебного проекта при реализации ФГОС (английский язык, 5класс</a:t>
            </a:r>
            <a:r>
              <a:rPr b="0" lang="ru-RU" sz="3200" spc="-1" strike="noStrike">
                <a:solidFill>
                  <a:srgbClr val="d16349"/>
                </a:solidFill>
                <a:latin typeface="Georgia"/>
              </a:rPr>
              <a:t>) 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2" name="Объект 3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39424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5493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«Путешествие в страну Туманного Альбиона»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4" name="Picture 2" descr="F:\6 в анг. праздник\DSCN2855.JPG"/>
          <p:cNvPicPr/>
          <p:nvPr/>
        </p:nvPicPr>
        <p:blipFill>
          <a:blip r:embed="rId1"/>
          <a:stretch/>
        </p:blipFill>
        <p:spPr>
          <a:xfrm>
            <a:off x="611280" y="3213000"/>
            <a:ext cx="4076640" cy="305748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4" descr=""/>
          <p:cNvPicPr/>
          <p:nvPr/>
        </p:nvPicPr>
        <p:blipFill>
          <a:blip r:embed="rId2"/>
          <a:stretch/>
        </p:blipFill>
        <p:spPr>
          <a:xfrm>
            <a:off x="6280200" y="4292640"/>
            <a:ext cx="1604880" cy="2209680"/>
          </a:xfrm>
          <a:prstGeom prst="rect">
            <a:avLst/>
          </a:prstGeom>
          <a:ln w="0">
            <a:noFill/>
          </a:ln>
        </p:spPr>
      </p:pic>
      <p:pic>
        <p:nvPicPr>
          <p:cNvPr id="686" name="Рисунок 3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321624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8" name="Объект 3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54295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90" name="Объект 2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09120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92" name="Объект 2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71176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94" name="Объект 2" descr=""/>
          <p:cNvPicPr/>
          <p:nvPr/>
        </p:nvPicPr>
        <p:blipFill>
          <a:blip r:embed="rId1"/>
          <a:stretch/>
        </p:blipFill>
        <p:spPr>
          <a:xfrm>
            <a:off x="1978200" y="1876320"/>
            <a:ext cx="515124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eorgia"/>
              </a:rPr>
              <a:t>Is that England?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96" name="Рисунок 5" descr=""/>
          <p:cNvPicPr/>
          <p:nvPr/>
        </p:nvPicPr>
        <p:blipFill>
          <a:blip r:embed="rId1"/>
          <a:stretch/>
        </p:blipFill>
        <p:spPr>
          <a:xfrm>
            <a:off x="3132000" y="2349360"/>
            <a:ext cx="28656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Georgia"/>
              </a:rPr>
              <a:t>The United Kingdom of Great Britain and Northern Ireland</a:t>
            </a:r>
            <a:r>
              <a:rPr b="1" lang="en-US" sz="30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ngland (London)– a red ro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cotland (Edinburgh)– a thist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ales (Cardiff)– a daffodi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rthern Ireland (Belfast) – a shamroc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9" name="Picture 2" descr=""/>
          <p:cNvPicPr/>
          <p:nvPr/>
        </p:nvPicPr>
        <p:blipFill>
          <a:blip r:embed="rId1"/>
          <a:stretch/>
        </p:blipFill>
        <p:spPr>
          <a:xfrm>
            <a:off x="6156360" y="1536840"/>
            <a:ext cx="735120" cy="1035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" descr=""/>
          <p:cNvPicPr/>
          <p:nvPr/>
        </p:nvPicPr>
        <p:blipFill>
          <a:blip r:embed="rId2"/>
          <a:stretch/>
        </p:blipFill>
        <p:spPr>
          <a:xfrm>
            <a:off x="5400720" y="328464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4" descr=""/>
          <p:cNvPicPr/>
          <p:nvPr/>
        </p:nvPicPr>
        <p:blipFill>
          <a:blip r:embed="rId3"/>
          <a:stretch/>
        </p:blipFill>
        <p:spPr>
          <a:xfrm>
            <a:off x="7308720" y="4365720"/>
            <a:ext cx="1274760" cy="1287360"/>
          </a:xfrm>
          <a:prstGeom prst="rect">
            <a:avLst/>
          </a:prstGeom>
          <a:ln w="0">
            <a:noFill/>
          </a:ln>
        </p:spPr>
      </p:pic>
      <p:pic>
        <p:nvPicPr>
          <p:cNvPr id="702" name="Рисунок 3" descr=""/>
          <p:cNvPicPr/>
          <p:nvPr/>
        </p:nvPicPr>
        <p:blipFill>
          <a:blip r:embed="rId4"/>
          <a:stretch/>
        </p:blipFill>
        <p:spPr>
          <a:xfrm>
            <a:off x="7666200" y="2349360"/>
            <a:ext cx="804600" cy="9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b400"/>
                </a:solidFill>
                <a:latin typeface="Wide Latin"/>
              </a:rPr>
              <a:t>British flag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1676520" y="4648320"/>
            <a:ext cx="5867280" cy="914400"/>
          </a:xfrm>
          <a:prstGeom prst="rect">
            <a:avLst/>
          </a:prstGeom>
          <a:solidFill>
            <a:srgbClr val="ccb400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howcard Gothic"/>
              </a:rPr>
              <a:t>UNION</a:t>
            </a:r>
            <a:r>
              <a:rPr b="1" lang="en-US" sz="4800" spc="-1" strike="noStrike">
                <a:solidFill>
                  <a:srgbClr val="646b86"/>
                </a:solidFill>
                <a:latin typeface="Showcard Gothic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Showcard Gothic"/>
              </a:rPr>
              <a:t>JACK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5" name="Picture 4" descr="f1"/>
          <p:cNvPicPr/>
          <p:nvPr/>
        </p:nvPicPr>
        <p:blipFill>
          <a:blip r:embed="rId1"/>
          <a:stretch/>
        </p:blipFill>
        <p:spPr>
          <a:xfrm>
            <a:off x="2987640" y="2816280"/>
            <a:ext cx="3306960" cy="16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533520" y="879480"/>
            <a:ext cx="8229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eorgia"/>
              </a:rPr>
              <a:t>British flag is called </a:t>
            </a:r>
            <a:r>
              <a:rPr b="0" lang="en-US" sz="4400" spc="-1" strike="noStrike">
                <a:solidFill>
                  <a:srgbClr val="ff0000"/>
                </a:solidFill>
                <a:latin typeface="Georgia"/>
              </a:rPr>
              <a:t>“Union Jack”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Really there are </a:t>
            </a:r>
            <a:r>
              <a:rPr b="0" lang="en-US" sz="3600" spc="-1" strike="noStrike">
                <a:solidFill>
                  <a:srgbClr val="0066ff"/>
                </a:solidFill>
                <a:latin typeface="Georgia"/>
              </a:rPr>
              <a:t>three flags</a:t>
            </a: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 in it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553680" y="2819520"/>
            <a:ext cx="274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b4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b400"/>
                </a:solidFill>
                <a:latin typeface="Georgia"/>
              </a:rPr>
              <a:t>English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eorgia"/>
              </a:rPr>
              <a:t>Scottish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ccb4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b400"/>
                </a:solidFill>
                <a:latin typeface="Georgia"/>
              </a:rPr>
              <a:t>Irish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8" name="Рисунок 1" descr=""/>
          <p:cNvPicPr/>
          <p:nvPr/>
        </p:nvPicPr>
        <p:blipFill>
          <a:blip r:embed="rId1"/>
          <a:stretch/>
        </p:blipFill>
        <p:spPr>
          <a:xfrm>
            <a:off x="4648320" y="3068640"/>
            <a:ext cx="3371760" cy="26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Georgia"/>
              </a:rPr>
              <a:t>Проектная деятельность </a:t>
            </a:r>
            <a:br>
              <a:rPr sz="3000"/>
            </a:br>
            <a:r>
              <a:rPr b="0" lang="ru-RU" sz="3000" spc="-1" strike="noStrike">
                <a:solidFill>
                  <a:srgbClr val="ff0000"/>
                </a:solidFill>
                <a:latin typeface="Georgia"/>
              </a:rPr>
              <a:t>в реализации ФГОС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ФГО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деятельностный подход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проектная деятель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универсальные учебные действ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познавательные                                      регулятивные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коммуникативные            личностны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Стрелка вниз 3"/>
          <p:cNvSpPr/>
          <p:nvPr/>
        </p:nvSpPr>
        <p:spPr>
          <a:xfrm>
            <a:off x="4500720" y="1989000"/>
            <a:ext cx="142560" cy="503280"/>
          </a:xfrm>
          <a:prstGeom prst="downArrow">
            <a:avLst>
              <a:gd name="adj1" fmla="val 50000"/>
              <a:gd name="adj2" fmla="val 50111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Стрелка вниз 4"/>
          <p:cNvSpPr/>
          <p:nvPr/>
        </p:nvSpPr>
        <p:spPr>
          <a:xfrm>
            <a:off x="4525920" y="3141720"/>
            <a:ext cx="117360" cy="43164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Стрелка вниз 5"/>
          <p:cNvSpPr/>
          <p:nvPr/>
        </p:nvSpPr>
        <p:spPr>
          <a:xfrm>
            <a:off x="4500720" y="4149720"/>
            <a:ext cx="142560" cy="431640"/>
          </a:xfrm>
          <a:prstGeom prst="downArrow">
            <a:avLst>
              <a:gd name="adj1" fmla="val 50000"/>
              <a:gd name="adj2" fmla="val 50098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663" name="Прямая со стрелкой 7"/>
          <p:cNvCxnSpPr/>
          <p:nvPr/>
        </p:nvCxnSpPr>
        <p:spPr>
          <a:xfrm flipH="1">
            <a:off x="2842560" y="4868640"/>
            <a:ext cx="577080" cy="2163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64" name="Прямая со стрелкой 9"/>
          <p:cNvCxnSpPr/>
          <p:nvPr/>
        </p:nvCxnSpPr>
        <p:spPr>
          <a:xfrm flipH="1">
            <a:off x="3418920" y="4869000"/>
            <a:ext cx="648360" cy="7214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65" name="Прямая со стрелкой 11"/>
          <p:cNvCxnSpPr/>
          <p:nvPr/>
        </p:nvCxnSpPr>
        <p:spPr>
          <a:xfrm>
            <a:off x="5580000" y="4868640"/>
            <a:ext cx="937440" cy="2163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66" name="Прямая со стрелкой 13"/>
          <p:cNvCxnSpPr/>
          <p:nvPr/>
        </p:nvCxnSpPr>
        <p:spPr>
          <a:xfrm>
            <a:off x="5003280" y="4869000"/>
            <a:ext cx="864360" cy="7214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eorgia"/>
              </a:rPr>
              <a:t>English Flag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Georgia"/>
              </a:rPr>
              <a:t>  </a:t>
            </a:r>
            <a:r>
              <a:rPr b="0" lang="en-US" sz="4400" spc="-1" strike="noStrike">
                <a:solidFill>
                  <a:srgbClr val="a50021"/>
                </a:solidFill>
                <a:latin typeface="Georgia"/>
              </a:rPr>
              <a:t>The red cross on white of St. George of England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1" name="Picture 6" descr="f2"/>
          <p:cNvPicPr/>
          <p:nvPr/>
        </p:nvPicPr>
        <p:blipFill>
          <a:blip r:embed="rId1"/>
          <a:stretch/>
        </p:blipFill>
        <p:spPr>
          <a:xfrm>
            <a:off x="1465200" y="2708280"/>
            <a:ext cx="2819520" cy="1693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18" presetSubtype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b400"/>
                </a:solidFill>
                <a:latin typeface="Georgia"/>
              </a:rPr>
              <a:t>Scottish Flag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The white “X” on blue of St Andrew for Scotland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4" name="Picture 6" descr="f3"/>
          <p:cNvPicPr/>
          <p:nvPr/>
        </p:nvPicPr>
        <p:blipFill>
          <a:blip r:embed="rId1"/>
          <a:stretch/>
        </p:blipFill>
        <p:spPr>
          <a:xfrm>
            <a:off x="1332000" y="3068640"/>
            <a:ext cx="2651040" cy="1601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eorgia"/>
              </a:rPr>
              <a:t>Irish Flag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990360" y="2819160"/>
            <a:ext cx="3352680" cy="190476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4400" spc="-1" strike="noStrike">
                <a:solidFill>
                  <a:srgbClr val="a50021"/>
                </a:solidFill>
                <a:latin typeface="Georgia"/>
              </a:rPr>
              <a:t>The red “X” on white of St. Patrick for Ireland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990720" y="2819520"/>
            <a:ext cx="335268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Line 11"/>
          <p:cNvSpPr/>
          <p:nvPr/>
        </p:nvSpPr>
        <p:spPr>
          <a:xfrm>
            <a:off x="990720" y="2819520"/>
            <a:ext cx="3352680" cy="190476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0" name="Line 12"/>
          <p:cNvSpPr/>
          <p:nvPr/>
        </p:nvSpPr>
        <p:spPr>
          <a:xfrm flipH="1">
            <a:off x="990360" y="2819520"/>
            <a:ext cx="3276360" cy="190476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2"/>
          <p:cNvSpPr/>
          <p:nvPr/>
        </p:nvSpPr>
        <p:spPr>
          <a:xfrm>
            <a:off x="50760" y="914400"/>
            <a:ext cx="935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Georgia"/>
              </a:rPr>
              <a:t>Finally when we put one Flag to another we will hav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3366ff"/>
                </a:solidFill>
                <a:latin typeface="Georgia"/>
              </a:rPr>
              <a:t>Union Jack”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22" name="Picture 3" descr="f1"/>
          <p:cNvPicPr/>
          <p:nvPr/>
        </p:nvPicPr>
        <p:blipFill>
          <a:blip r:embed="rId1"/>
          <a:stretch/>
        </p:blipFill>
        <p:spPr>
          <a:xfrm>
            <a:off x="3548160" y="4869000"/>
            <a:ext cx="2357280" cy="11761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" descr="f2"/>
          <p:cNvPicPr/>
          <p:nvPr/>
        </p:nvPicPr>
        <p:blipFill>
          <a:blip r:embed="rId2"/>
          <a:stretch/>
        </p:blipFill>
        <p:spPr>
          <a:xfrm>
            <a:off x="6303960" y="2579760"/>
            <a:ext cx="2340000" cy="14065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" descr="f3"/>
          <p:cNvPicPr/>
          <p:nvPr/>
        </p:nvPicPr>
        <p:blipFill>
          <a:blip r:embed="rId3"/>
          <a:stretch/>
        </p:blipFill>
        <p:spPr>
          <a:xfrm>
            <a:off x="539640" y="2579760"/>
            <a:ext cx="2170080" cy="1311120"/>
          </a:xfrm>
          <a:prstGeom prst="rect">
            <a:avLst/>
          </a:prstGeom>
          <a:ln w="0">
            <a:noFill/>
          </a:ln>
        </p:spPr>
      </p:pic>
      <p:grpSp>
        <p:nvGrpSpPr>
          <p:cNvPr id="725" name="Группа 1"/>
          <p:cNvGrpSpPr/>
          <p:nvPr/>
        </p:nvGrpSpPr>
        <p:grpSpPr>
          <a:xfrm>
            <a:off x="3714840" y="2654280"/>
            <a:ext cx="2023920" cy="1257480"/>
            <a:chOff x="3714840" y="2654280"/>
            <a:chExt cx="2023920" cy="1257480"/>
          </a:xfrm>
        </p:grpSpPr>
        <p:sp>
          <p:nvSpPr>
            <p:cNvPr id="726" name="Rectangle 6"/>
            <p:cNvSpPr/>
            <p:nvPr/>
          </p:nvSpPr>
          <p:spPr>
            <a:xfrm>
              <a:off x="3714840" y="2654280"/>
              <a:ext cx="2023920" cy="12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27" name="Line 7"/>
            <p:cNvSpPr/>
            <p:nvPr/>
          </p:nvSpPr>
          <p:spPr>
            <a:xfrm flipH="1">
              <a:off x="3781080" y="2654280"/>
              <a:ext cx="1957680" cy="12574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28" name="Line 8"/>
            <p:cNvSpPr/>
            <p:nvPr/>
          </p:nvSpPr>
          <p:spPr>
            <a:xfrm>
              <a:off x="3781080" y="2654280"/>
              <a:ext cx="1957680" cy="12574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3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30" name="Picture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32" name="Объект 2" descr=""/>
          <p:cNvPicPr/>
          <p:nvPr/>
        </p:nvPicPr>
        <p:blipFill>
          <a:blip r:embed="rId1"/>
          <a:stretch/>
        </p:blipFill>
        <p:spPr>
          <a:xfrm>
            <a:off x="2614680" y="2120760"/>
            <a:ext cx="3593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34" name="Объект 2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56280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36" name="Объект 2" descr=""/>
          <p:cNvPicPr/>
          <p:nvPr/>
        </p:nvPicPr>
        <p:blipFill>
          <a:blip r:embed="rId1"/>
          <a:stretch/>
        </p:blipFill>
        <p:spPr>
          <a:xfrm>
            <a:off x="1386000" y="1700280"/>
            <a:ext cx="6210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38" name="Объект 2" descr=""/>
          <p:cNvPicPr/>
          <p:nvPr/>
        </p:nvPicPr>
        <p:blipFill>
          <a:blip r:embed="rId1"/>
          <a:stretch/>
        </p:blipFill>
        <p:spPr>
          <a:xfrm>
            <a:off x="1925640" y="1841400"/>
            <a:ext cx="52563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40" name="Объект 2" descr=""/>
          <p:cNvPicPr/>
          <p:nvPr/>
        </p:nvPicPr>
        <p:blipFill>
          <a:blip r:embed="rId1"/>
          <a:stretch/>
        </p:blipFill>
        <p:spPr>
          <a:xfrm>
            <a:off x="1600200" y="1595520"/>
            <a:ext cx="590724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Georgia"/>
              </a:rPr>
              <a:t>Умения, которые формируются у детей через проектную деятельность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Рефлексивные умения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Поисковые ум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Навыки оценочной самостоятельност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Умения и навыки работы в сотрудничеств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Коммуникативные ум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Презентационные умения и навы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42" name="Объект 2" descr=""/>
          <p:cNvPicPr/>
          <p:nvPr/>
        </p:nvPicPr>
        <p:blipFill>
          <a:blip r:embed="rId1"/>
          <a:stretch/>
        </p:blipFill>
        <p:spPr>
          <a:xfrm>
            <a:off x="1346040" y="1612800"/>
            <a:ext cx="64152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44" name="Рисунок 3" descr=""/>
          <p:cNvPicPr/>
          <p:nvPr/>
        </p:nvPicPr>
        <p:blipFill>
          <a:blip r:embed="rId1"/>
          <a:stretch/>
        </p:blipFill>
        <p:spPr>
          <a:xfrm>
            <a:off x="1649520" y="2205000"/>
            <a:ext cx="64371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46" name="Объект 2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299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48" name="Объект 2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775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50" name="Объект 2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07068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52" name="Объект 2" descr=""/>
          <p:cNvPicPr/>
          <p:nvPr/>
        </p:nvPicPr>
        <p:blipFill>
          <a:blip r:embed="rId1"/>
          <a:stretch/>
        </p:blipFill>
        <p:spPr>
          <a:xfrm>
            <a:off x="1728720" y="1697040"/>
            <a:ext cx="564984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54" name="Объект 2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33052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Georgia"/>
              </a:rPr>
              <a:t>Практическая работа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Соберите карту страны изучаемого язык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Напишите ее полное название и названия стран, входящих в ее состав, их столиц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Приклейте символы этих стран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Изготовьте флажок </a:t>
            </a:r>
            <a:r>
              <a:rPr b="1" lang="en-US" sz="2700" spc="-1" strike="noStrike">
                <a:solidFill>
                  <a:srgbClr val="002060"/>
                </a:solidFill>
                <a:latin typeface="Georgia"/>
              </a:rPr>
              <a:t>Union Jack </a:t>
            </a: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и подколите его к макет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Georgia"/>
              </a:rPr>
              <a:t>Изготовление макета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58" name="Объект 2" descr=""/>
          <p:cNvPicPr/>
          <p:nvPr/>
        </p:nvPicPr>
        <p:blipFill>
          <a:blip r:embed="rId1"/>
          <a:stretch/>
        </p:blipFill>
        <p:spPr>
          <a:xfrm>
            <a:off x="2971800" y="1989000"/>
            <a:ext cx="329256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60" name="Объект 2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23548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Georgia"/>
              </a:rPr>
              <a:t>Почему именно страноведение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«Изучение иностранного языка неотделимо от ознакомления с культурой страны изучаемого языка, ее историей, социально-культурными традициями, особенностями национального видения мира народом-носителем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Georgia"/>
              </a:rPr>
              <a:t>ПРОЕКТ «Объединенное Королевство»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Информационный </a:t>
            </a:r>
            <a:r>
              <a:rPr b="0" lang="ru-RU" sz="2700" spc="-1" strike="noStrike">
                <a:solidFill>
                  <a:srgbClr val="0070c0"/>
                </a:solidFill>
                <a:latin typeface="Georgia"/>
              </a:rPr>
              <a:t>(направлен на сбор информации и ознакомление с ней ее участников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Межпредметный </a:t>
            </a:r>
            <a:r>
              <a:rPr b="0" lang="ru-RU" sz="2700" spc="-1" strike="noStrike">
                <a:solidFill>
                  <a:srgbClr val="0070c0"/>
                </a:solidFill>
                <a:latin typeface="Georgia"/>
              </a:rPr>
              <a:t>(по содержанию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Групповой </a:t>
            </a:r>
            <a:r>
              <a:rPr b="0" lang="ru-RU" sz="2700" spc="-1" strike="noStrike">
                <a:solidFill>
                  <a:srgbClr val="0070c0"/>
                </a:solidFill>
                <a:latin typeface="Georgia"/>
              </a:rPr>
              <a:t>(по форме работы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Долгосрочный </a:t>
            </a:r>
            <a:r>
              <a:rPr b="0" lang="ru-RU" sz="2700" spc="-1" strike="noStrike">
                <a:solidFill>
                  <a:srgbClr val="0070c0"/>
                </a:solidFill>
                <a:latin typeface="Georgia"/>
              </a:rPr>
              <a:t>(по продолжительности - 6месяцев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Проект «Объединенное королевство Великобритании и Северной Ирландии»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предполагает знакомство учащихся 5 класс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с географическим положением, климатом, политическим устройством, традициями и обычаями, известными личностями, достопримечательностями стран, входящих в Объединенное Королевство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Georgia"/>
              </a:rPr>
              <a:t>Запуск проект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После просмотра видео сюжета предлагается ответить на ряд вопросов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Знаете ли вы, где живет Королева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Знаете ли вы членов семьи английской королевы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Сколько весят часы на башне Биг Бен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Почему они так называются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Как называется английский флаг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Из каких частей он состоит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24000" y="1116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ff0000"/>
                </a:solidFill>
                <a:latin typeface="Georgia"/>
              </a:rPr>
              <a:t>Цель проекта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асширение и углубление знаний в области социальной и культурной истории стран, входящих в Объединенное Королевств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Georgia"/>
              </a:rPr>
              <a:t>Задачи проекта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отбор страноведческого материал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подбор наглядного материала, изготовление макета королевств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изготовление национальных костюмов/ элементов костюм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подбор стихов, песен, танцев и разучивание и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Georgia"/>
              </a:rPr>
              <a:t>Планирование проект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II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 четверть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1.Транспорт в Лондоне. Двухэтажные автобусы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2. Королева Елизавета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I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ее семья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3. Букингемский дворец – резиденция королевской семь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. Английская семья. Традиции и обыча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5. Рождество  в Англи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6. Рождественские традиции в Англии. Познавательные задания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7. Мастерская Санты Клауса. Практическая работа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8T09:00:19Z</dcterms:created>
  <dc:creator>admin</dc:creator>
  <dc:description/>
  <dc:language>en-US</dc:language>
  <cp:lastModifiedBy>pichugina</cp:lastModifiedBy>
  <dcterms:modified xsi:type="dcterms:W3CDTF">2014-05-23T08:32:22Z</dcterms:modified>
  <cp:revision>69</cp:revision>
  <dc:subject/>
  <dc:title>Возможности проектной деятельности в реализации ФГОС</dc:title>
</cp:coreProperties>
</file>